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26C4-586F-4A79-A45A-CFA0EC11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31C-1EF0-42BD-92D9-CE3A5133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4F93-6006-4F28-9E7E-59C90AD0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FCE1-092A-4BB7-9DCF-70124F05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F5F2-14AE-48EF-B7D5-F55FF9FA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7A0F-3B90-426A-8981-0A4B4BB3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454A-FBBC-4B63-81B7-6CD701F1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F30B-8A87-4BB1-A11A-52A3366E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A109-EA34-4269-81D3-BC142DF3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23CC-CE83-4A89-9898-929BF806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A149-4D49-4A66-8E0F-ABC4539D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FCFC-305A-4006-9B42-B0476CC4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4426-F8C8-41BA-B536-6A5C9C55A9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241740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Holli Cream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68520" y="4282560"/>
            <a:ext cx="702288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ighbors Know My Ice Cream It’s Screamin Holli Cream, Holli Cream!!!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5112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